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777240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3794"/>
                </a:moveTo>
                <a:lnTo>
                  <a:pt x="21957" y="10800"/>
                </a:lnTo>
                <a:lnTo>
                  <a:pt x="794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.wav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.wav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Q.wav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h.wav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.wav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.wav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G.wav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K.wav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.wav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.wav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.wav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.wav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.wav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H.wav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L.wa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h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828800"/>
            <a:ext cx="746136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llite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ching initial conso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762120"/>
            <a:ext cx="55432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F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176480"/>
            <a:ext cx="59245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J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762120"/>
            <a:ext cx="43149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603360"/>
            <a:ext cx="55152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Q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009800"/>
            <a:ext cx="4467240" cy="32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S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533520"/>
            <a:ext cx="3270240" cy="36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V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80880"/>
            <a:ext cx="34099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733320"/>
            <a:ext cx="4524480" cy="33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506520"/>
            <a:ext cx="469584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K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685800"/>
            <a:ext cx="5658120" cy="33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14300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to hear it ag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N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798480"/>
            <a:ext cx="4638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R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360360"/>
            <a:ext cx="508644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T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990720"/>
            <a:ext cx="654372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W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571680"/>
            <a:ext cx="5391360" cy="32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5334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lay again, click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  <a:hlinkClick r:id="rId1"/>
          </p:cNvPr>
          <p:cNvSpPr/>
          <p:nvPr/>
        </p:nvSpPr>
        <p:spPr>
          <a:xfrm>
            <a:off x="0" y="58672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901" h="21600">
                <a:moveTo>
                  <a:pt x="7944" y="10800"/>
                </a:moveTo>
                <a:lnTo>
                  <a:pt x="21957" y="3794"/>
                </a:lnTo>
                <a:lnTo>
                  <a:pt x="2195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0" y="378000"/>
          <a:ext cx="4572000" cy="384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78000"/>
                    <a:ext cx="4572000" cy="38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133720" y="43434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by Jennifer Mitchell, CCC-S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endshow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64" h="21600">
                <a:moveTo>
                  <a:pt x="8776" y="3794"/>
                </a:moveTo>
                <a:lnTo>
                  <a:pt x="22789" y="10800"/>
                </a:lnTo>
                <a:lnTo>
                  <a:pt x="87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5334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d, click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4952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D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066680"/>
            <a:ext cx="417168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51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1371600"/>
            <a:ext cx="50673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49528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219320"/>
            <a:ext cx="429588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155600"/>
            <a:ext cx="528624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914400"/>
            <a:ext cx="51624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Th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828720"/>
            <a:ext cx="4676760" cy="3419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733920" y="49528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33720" y="49528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495288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495288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Y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685800"/>
            <a:ext cx="6153120" cy="342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21:52:20Z</dcterms:created>
  <dc:creator>Jennifer Mitchell</dc:creator>
  <dc:description/>
  <dc:language>en-US</dc:language>
  <cp:lastModifiedBy>Grigas</cp:lastModifiedBy>
  <dcterms:modified xsi:type="dcterms:W3CDTF">2001-05-27T15:49:29Z</dcterms:modified>
  <cp:revision>10</cp:revision>
  <dc:subject>Alliteration</dc:subject>
  <dc:title>Alliteration</dc:title>
</cp:coreProperties>
</file>